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ct" ContentType="image/x-pict"/>
  <Override PartName="/ppt/media/image7.jpeg" ContentType="image/jpeg"/>
  <Override PartName="/ppt/media/image11.jpeg" ContentType="image/jpeg"/>
  <Override PartName="/ppt/media/image9.jpeg" ContentType="image/jpeg"/>
  <Override PartName="/ppt/media/image20.pct" ContentType="image/x-pict"/>
  <Override PartName="/ppt/media/image19.jpeg" ContentType="image/jpeg"/>
  <Override PartName="/ppt/media/image18.jpeg" ContentType="image/jpeg"/>
  <Override PartName="/ppt/media/image17.jpeg" ContentType="image/jpeg"/>
  <Override PartName="/ppt/media/image14.pct" ContentType="image/x-pict"/>
  <Override PartName="/ppt/media/image5.jpeg" ContentType="image/jpeg"/>
  <Override PartName="/ppt/media/image15.png" ContentType="image/png"/>
  <Override PartName="/ppt/media/image3.jpeg" ContentType="image/jpeg"/>
  <Override PartName="/ppt/media/image12.pct" ContentType="image/x-pict"/>
  <Override PartName="/ppt/media/image1.png" ContentType="image/png"/>
  <Override PartName="/ppt/media/image4.jpeg" ContentType="image/jpeg"/>
  <Override PartName="/ppt/media/image2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F1B9-7CE0-4A4A-B485-5A70D1733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0AA0-2E8A-4BFF-9F28-5B89D00E18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C06-F951-4D8A-9B12-30EDB69B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DE0-4B8B-46E3-AEDC-69154895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0E7-9077-40F7-B630-6F400361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C2F-0F7B-479B-BB54-35EAFF46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8C85-18B6-4AA0-9DEF-7692A909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C7E2-D94D-441C-B08A-59278D3E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36EC-05EA-441B-8152-9AC2B1EA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9A44-7D2A-43D5-89A0-93BD32D6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D7EA-A99E-4E45-927E-70D5A09D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8B18-5BC9-4A6C-994B-FC76F9E5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0FE7-6F23-4671-AB63-12DDB211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7D3-74F0-428F-A09A-5A578FD6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6FCD-56DE-4C07-B136-9C08B7F6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82BD-3A4C-4BBF-9C9B-F437CC2C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D76D-F172-4959-8522-3CFC3E84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AA21-C595-47B7-9A1F-2EAAE168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B0D5-C9C0-4BD7-B69E-2C4F6586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90388-641A-428D-B7F9-D42F5FBF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43DA3-2268-4840-A9C7-2024389C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1D56-0916-4382-9845-537FE93D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CD18-E936-4D35-B5F8-3A29FEFF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85F52-AF80-49F4-9266-EAE23175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8FC-160C-4262-8D01-E82ABD49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66D52-2771-4736-857D-A7A608FC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4AB6-43A7-4AFC-890C-91D040BA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19F0B-2720-4198-BE8E-7A164D46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32BCE-1D0B-436B-A2A7-BEF783F2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670F5-1DA4-40ED-A733-017FB0F6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8DD79-FB68-4AA0-ABDD-52C4FBD0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2900-DCCD-4B33-BB58-85365914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58412-B684-4424-B7C7-FDF17146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2DE5D-5F1A-4402-AF45-7D70E79C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7BFF-EAEE-4E8D-9C33-429DCA6D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8A3-826B-437C-8BF5-CFE1D752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0D7DF-CBED-45E4-804A-BDC4FF43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5DB0A-1765-4F33-BB35-2E6B86D1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81302-3401-473E-B3B3-959A2C0B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325AA-90C8-400D-8066-C2FB71CB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A7A59-0881-4800-958D-FCD85A0E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5DA81-D657-44C3-9B2D-AD67AD46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28AE3-D2E5-44C9-A26D-A4BF0C42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E3AE2-AFB6-4ACB-AB2C-A5D77444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FFD28-6ECA-4D55-BDF4-6875E9CF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A89-8C61-454A-B7E2-725CB35B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F36-39B2-4617-B786-0BD2A28C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680-C58A-4C9D-80C8-55C39E5A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5E2-D23F-474F-BF2C-86B41F9B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64CB-AB34-406D-A446-58D8C747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52C6-01C4-4BD8-AF73-5BDF58BA3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F33F-C2D1-4009-9AD8-3AB54F852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4DFF-05B4-4BFE-9A82-D26486B7F8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CE44-CAE3-4753-9A87-1CC26842C1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he Rise and Fall of the Roman Empir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an Citizenship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s had a strong sense of citizenshi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 citizens were protected by Rome, but had a duty to participate in society and to make it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ilosophy that preached good citizenship was called Stoicis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icism stressed the importance of being a good citiz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an Law and Rights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 laws stressed fairness and common s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equal treatment under the law in Rome and people were considered innocent until proved guilty when accused of a cr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took much of our system of government from the Roma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’s first emperor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avian is Rome’s first empe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took the name Augustus Caes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his rule, Rome expanded and enjoyed a period of peace.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187960" y="1828800"/>
            <a:ext cx="27306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Pax Romana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e lived in peace for 200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called the Pax Romana, the Peace of Rome. Unfortunately for Rome, the peace would not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’s Economy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 </a:t>
            </a:r>
            <a:r>
              <a:rPr b="0" lang="en-US" sz="3200" spc="-1" strike="noStrike">
                <a:solidFill>
                  <a:srgbClr val="0046af"/>
                </a:solidFill>
                <a:latin typeface="Arial"/>
              </a:rPr>
              <a:t>tra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 engine that drove the </a:t>
            </a:r>
            <a:r>
              <a:rPr b="0" lang="en-US" sz="3200" spc="-1" strike="noStrike">
                <a:solidFill>
                  <a:srgbClr val="0046af"/>
                </a:solidFill>
                <a:latin typeface="Arial"/>
              </a:rPr>
              <a:t>Roman econom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late </a:t>
            </a:r>
            <a:r>
              <a:rPr b="0" lang="en-US" sz="3200" spc="-1" strike="noStrike">
                <a:solidFill>
                  <a:srgbClr val="0046af"/>
                </a:solidFill>
                <a:latin typeface="Arial"/>
              </a:rPr>
              <a:t>Republ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early </a:t>
            </a:r>
            <a:r>
              <a:rPr b="0" lang="en-US" sz="3200" spc="-1" strike="noStrike">
                <a:solidFill>
                  <a:srgbClr val="0046af"/>
                </a:solidFill>
                <a:latin typeface="Arial"/>
              </a:rPr>
              <a:t>Empi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590920" y="3733920"/>
            <a:ext cx="3797280" cy="2133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’s Social Clas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e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ians-Upper Class (nobility and wealthy landow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beians (well-to-do tradesmen all the way down to the very p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 grew weak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me grew weak because it had grown too l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reason Rome grew weak is that they had tax problems and couldn’t raise enough money to keep the roads from crumb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ry was also a problem in the empire. With so many slaves, the people did not need to wo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problems that helped R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wnfall were corrupt generals, civil wars, and economic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Arial"/>
              </a:rPr>
              <a:t>Barbarians at the gates (P)</a:t>
            </a:r>
            <a:endParaRPr b="0" lang="en-US" sz="40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mans called the people who destroyed Rome Barbar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mans called anyone who didn’t speak Greek, even though the word barbarian actually means uncivilized, lacking in culture and vio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man Empire fell in 476 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part of the empire would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STOP DO NOT GO ON!!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518"/>
                </a:solidFill>
                <a:latin typeface="Arial"/>
              </a:rPr>
              <a:t>Byzantium (G)</a:t>
            </a:r>
            <a:endParaRPr b="0" lang="en-US" sz="36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part of the Roman Empire became known as the Byzantine Empire or Byzanti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467480" cy="3921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onstantinople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inople was named for emperor Constant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ine was important because  he legalized Christianity in the emp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Constantine’s rule, Christianity spread great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moved the capital of the empire from Rome to Constantinop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257800" y="1752480"/>
            <a:ext cx="300996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he Roman Empire at its Height (G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man Empire became h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overed most of Europe, North Africa, and some of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mpire reached its height under Emperor Diocletian (284-305 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8" descr="http://wps.ablongman.com/wps/media/objects/262/268312/art/figures/KISH_06_131.gif"/>
          <p:cNvPicPr/>
          <p:nvPr/>
        </p:nvPicPr>
        <p:blipFill>
          <a:blip r:embed="rId2"/>
          <a:stretch/>
        </p:blipFill>
        <p:spPr>
          <a:xfrm>
            <a:off x="457200" y="2514600"/>
            <a:ext cx="4038480" cy="3760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onstantinople grows (E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inople became a leading center of t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helped the Byzantine Empire grow ri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4724280" cy="3575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Justinian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nian was the greatest of the Byzantine empe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nian made many changes in the law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laws were called The Code of Justini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nian also built many churches throughout the empi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948200" y="182880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Disagreements between east and wes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people in the Byzantine Empire were Christian, but the people in the west and the people in the east disagreed about how to worship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d to a split in the Catholic Church. It was called a sch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ism is a split. The Roman Catholic Church had a schism, splitting in ha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wo churches ( R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urch in the east was called Eastern Orthod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urch in the west was called Roman Cathol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0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518"/>
                </a:solidFill>
                <a:latin typeface="Arial"/>
              </a:rPr>
              <a:t>Patriarch ( R)</a:t>
            </a:r>
            <a:endParaRPr b="0" lang="en-US" sz="36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der of the church in Constantinople was called the Patriar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092560" y="1828800"/>
            <a:ext cx="292104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onstantinople is captured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lit in the church weakened the Byzantine Empi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453, the Ottoman Turks captured Constantinople and the Byzantine Empire came to an e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he Byzantine Empire preserves great stuff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yzantine Empire preserved the art and literature of the Greeks and Roma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the Byzantine, the world may have lost great treasures of the p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ise of Christianity ( R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cient Romans believed in Myth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ianity spread in 300s when Constantine became a Christi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Christianity the official religion of the emp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der of the church in Rome was called the P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urch in the west was called Roman Cathol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729480" y="3733920"/>
            <a:ext cx="2109600" cy="2334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 built great stuff (A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e built  great roads to travel on and aqueducts to bring water into the 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e also built great stadiums and amphitheaters for the entertainment of the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s also developed the use of the ar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3809880" cy="2860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800600" y="3505320"/>
            <a:ext cx="3505320" cy="2993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an Art (A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aics were popular in Rome. A mosaic is a picture made out of small, colored tiles or pieces of g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mans also made great statues that looked like the real thing, even though they were made from st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810240" cy="1981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800600" y="3808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2772000" cy="3276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962520" y="3048120"/>
            <a:ext cx="4724280" cy="2457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 was a Republic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public is a form of government where people elect represent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ted States has a representative government. We learned about this form of government from the Roma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he Senate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nate led the Roman Emp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made the laws for the republ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8320" y="2262240"/>
            <a:ext cx="3809880" cy="3627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6:31:18Z</dcterms:created>
  <dc:creator>Jeff Kash</dc:creator>
  <dc:description/>
  <cp:keywords/>
  <dc:language>en-US</dc:language>
  <cp:lastModifiedBy>San Diego City Schools</cp:lastModifiedBy>
  <dcterms:modified xsi:type="dcterms:W3CDTF">2012-01-12T18:55:12Z</dcterms:modified>
  <cp:revision>28</cp:revision>
  <dc:subject/>
  <dc:title>PowerPoint Presentation  -  The Rise and Fall of the Roman Empire</dc:title>
</cp:coreProperties>
</file>